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FDB-BDA5-4670-8A40-3CEB6253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1F2-117D-428B-8B72-53BC5C5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22A-BD5F-4BA3-AD9A-94098778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B95-4E3B-4727-8766-AAA8B038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ADF0-881E-422E-BD8B-E0D545F3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83E5-37E5-4EEF-AC1C-7782105D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B209-3320-4F1A-B452-224640A9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9775-B6E0-4D32-9482-84ED0CA8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6516-7523-4DE2-9BF3-77FDD4A6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BD5A-5A0C-44E1-BA43-D0148DB5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C08A-58FD-4CC6-80B1-DEA8B5DE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A1A-0D5B-4954-BA8E-2107A91B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B9AE-1BBA-429F-8031-5086772C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3F53-AB6E-4A1A-BEF9-684BDA9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C19C-80BE-4478-BC71-1B71B2D4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5649-6CE4-4EF7-865F-780FD5F4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86CD-756B-4FCA-9E9D-C62AF37E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77B-26FA-4775-B578-90BD5EEE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EFF-439C-4254-B311-899D656C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927-2796-4E4F-BC54-651E4F3E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B00-7C83-47E6-88C6-CABF6DBE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F5F-B57A-473F-91EC-197DEA52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215-8CEE-40E2-B143-3CF66EE4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5F2-9974-4962-BDD4-5F18C49A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9E92-885B-445E-9F3D-8601B8E3BB7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5C7E-1897-431C-9EC6-C7F9273738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Go Tell The Good News”</a:t>
            </a:r>
            <a:br>
              <a:rPr sz="46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Part 1</a:t>
            </a:r>
            <a:br>
              <a:rPr sz="3400"/>
            </a:b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he Church Is Scattered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11, Lesson 9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cts 9:32 - 10:1-4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50-5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 Perplexed At The Vision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5345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had preached on Pentecost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The promise is to you and to your children and to all that are afar off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Jesus had commande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Go ye into all the world and preach the gospel to every creature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Before Peter’s vision, did he understand who the “afar off” we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 Goes To Caesarea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7-2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3818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three men found P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invited them to stay overnigh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next day Peter, six witnesses, and the three men went to Caesar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was waiting for them with relatives and frie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 Meets Cornelius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25-3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fell down at Peter’s feet and worshipped hi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sai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Stand up, I myself am also a m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explained why he had called for P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wanted to hear all things commanded by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’s Sermo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34-4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6868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opened his mouth and said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In truth I perceive that God shows no partiality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preached Christ and Him crucified to Cornelius and his fami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In summary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...everyone that believes on Him shall receive the remission of sins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Holy Spirit Fell Upon Gentiles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44-4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hile Peter was still speaking, the Holy Spirit fell upon all those who heard the wo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Jewish Christians were astonish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Gentiles were able to speak tongues and magnified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First Gentiles Converted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44-4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answere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Can anyone forbid water, that these should not be baptized who had received the Holy Spirit just as we have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commanded them to be baptized in the name of the Jesus Chri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839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 Preaches In Lydda And Sharon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9:32-35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church had a time of peac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left Jerusalem on a tour that      took him t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Lydda (the Old Testament city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of Lo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ll the plain of Shar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Jopp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nd finally Caes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healed a paralytic named Aene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553080" y="4724280"/>
            <a:ext cx="1447920" cy="60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2877E-006 C -0.00937 -0.01248 -0.01562 -0.03353 -0.02934 -0.03885 C -0.03333 -0.0444 -0.03611 -0.05203 -0.04166 -0.05527 C -0.04461 -0.05689 -0.05086 -0.05943 -0.05086 -0.05943 C -0.05243 -0.06082 -0.05416 -0.06197 -0.05538 -0.06359 C -0.05711 -0.06591 -0.05798 -0.06961 -0.06007 -0.07169 C -0.06371 -0.07539 -0.07239 -0.08001 -0.07239 -0.08001 C -0.07986 -0.09296 -0.08333 -0.08811 -0.09236 -0.09643 C -0.13159 -0.09551 -0.17656 -0.09944 -0.21701 -0.09019 C -0.23507 -0.09296 -0.24479 -0.09181 -0.2585 -0.10453 C -0.25954 -0.10661 -0.26024 -0.10892 -0.26163 -0.11077 C -0.26284 -0.11239 -0.26493 -0.11285 -0.26614 -0.1147 C -0.27795 -0.13228 -0.26649 -0.12303 -0.27847 -0.13112 C -0.26614 -0.13783 -0.27361 -0.13529 -0.25538 -0.13529 E">
                                      <p:cBhvr>
                                        <p:cTn id="35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38 -0.13529 C -0.26059 -0.1487 -0.2585 -0.15448 -0.26927 -0.16188 C -0.27413 -0.17159 -0.27343 -0.17483 -0.28159 -0.18038 C -0.28993 -0.19634 -0.27829 -0.17599 -0.29079 -0.19056 C -0.2927 -0.19287 -0.29357 -0.19657 -0.29548 -0.19888 C -0.3 -0.20397 -0.3059 -0.20675 -0.31076 -0.21114 C -0.31284 -0.21299 -0.31354 -0.21692 -0.31545 -0.21924 C -0.31684 -0.22109 -0.31857 -0.22201 -0.32014 -0.2234 C -0.35104 -0.20906 -0.38836 -0.21507 -0.42014 -0.21507 E">
                                      <p:cBhvr>
                                        <p:cTn id="39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013 -0.21507 C -0.41493 -0.21646 -0.40954 -0.21669 -0.40468 -0.21923 C -0.40121 -0.22085 -0.39548 -0.22733 -0.39548 -0.22733 C -0.38697 -0.25161 -0.39843 -0.22316 -0.38784 -0.23958 C -0.38246 -0.24814 -0.38124 -0.25785 -0.37395 -0.26433 C -0.36822 -0.27959 -0.36163 -0.29509 -0.35711 -0.31128 C -0.35642 -0.31405 -0.35659 -0.31706 -0.35555 -0.3196 C -0.35381 -0.324 -0.3493 -0.33186 -0.3493 -0.33186 C -0.34687 -0.34273 -0.34288 -0.35175 -0.3401 -0.36262 C -0.33819 -0.36979 -0.33333 -0.37626 -0.3309 -0.3832 C -0.32725 -0.39384 -0.32517 -0.40402 -0.32013 -0.41373 C -0.31666 -0.4276 -0.31423 -0.44217 -0.30624 -0.45281 C -0.29861 -0.47409 -0.29045 -0.49583 -0.28472 -0.51826 C -0.28576 -0.52451 -0.28611 -0.53098 -0.28784 -0.53676 C -0.29097 -0.54694 -0.29635 -0.55573 -0.30017 -0.56544 C -0.30121 -0.56822 -0.30416 -0.56822 -0.30624 -0.5696 C -0.31753 -0.56451 -0.31232 -0.5666 -0.3217 -0.56336 C -0.32934 -0.56475 -0.33715 -0.56521 -0.34479 -0.56752 C -0.34652 -0.56798 -0.3493 -0.57168 -0.3493 -0.57168 E">
                                      <p:cBhvr>
                                        <p:cTn id="43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orcas Raised From The Dead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9:36-4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Dorcas (her Greek name) lived in Jop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Was rich in good works; did charitable dee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became sick and di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Disciples sent for Peter in Lyd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raised Dorcas from the de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any converted as the report spre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First Sermon To Gentiles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 man named Cornelius lived in Caesar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centurion of the Roman coh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was a deeply religious ma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He feared God with all his hou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He prayed continuous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He helped the po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Vision of Cornelius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-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was praying at three o’clock in the afterno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saw an open vision (that is, he was awake, not asleep or dreamin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n angel appeared to him; he was frightened, saying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What is it, Lord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Vision of Cornelius 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1-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83818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angel sai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Your prayers and your good deeds are observed by God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angel told him to send men to Joppa to bring back Simon who was surnamed Pe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rnelius sent three men to Jop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y arrived in Joppa the next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’s Vision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9-1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15328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was staying with Simon the tann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e was on the housetop pray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hile praying, he had a vis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heaven (sky) open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great sheet was lowered by the four corners upon the ear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In the sheet were all kinds of four-footed animals, reptiles and bir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eter’s Vision</a:t>
            </a:r>
            <a:br>
              <a:rPr sz="36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s 10:9-1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 voice commande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Get up, Peter: kill one of these animals and eat it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’s reply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No way, Lord, for I have never eaten anything common or uncle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e voice replied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What God has cleansed, do not call common or uncle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This happened three tim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0:29:31Z</dcterms:created>
  <dc:creator>robert marshall</dc:creator>
  <dc:description/>
  <dc:language>en-US</dc:language>
  <cp:lastModifiedBy>Frank D Vines</cp:lastModifiedBy>
  <dcterms:modified xsi:type="dcterms:W3CDTF">2007-02-04T01:48:31Z</dcterms:modified>
  <cp:revision>18</cp:revision>
  <dc:subject/>
  <dc:title>“Go Tell The Good News” Part 1  The Church Is Scattered</dc:title>
</cp:coreProperties>
</file>